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6823-AB56-409B-8BB0-FAC94A6E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64F0-31DA-4DB5-BB4C-8566E12E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08E3-8D9B-461C-B866-90C53133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A02C-B9D7-4953-97F8-77A32A26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A1C8-3C91-4620-B8E5-B3DDF022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1307-B73C-4AD3-971F-05DDAC3F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C9C1-77AC-4E84-84C9-48A982B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9C94-BCF1-45B0-AF8B-C1706029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07DD-FEE4-4F3D-9CCE-D2D840A4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04EC-9D8B-4869-912E-D49A6E36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7EAF-C526-4143-BA59-FC490CC5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A29F-5161-40B7-A43B-E9373751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E7F8-509B-4952-AF04-FFE95A39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0A04-B0B1-45E0-92C1-A9ACBF6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029D-FA5A-4A77-B689-28A5C0BD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97E9-93D7-4C8A-AE64-3A828C01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3554-20E1-4CB9-9D95-E7324F25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71F1-45DC-4FE8-816C-E9ED526B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DE5B-8AD7-44A4-898F-18C5AF0C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7EB9-FC45-4B1E-B445-0000A78D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E7B5-9A72-47AC-9CD3-F3AAC03F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521A-6CA4-415F-990C-753161C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7CA9-3C5F-4343-B41E-B378CDDE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55EB-ACFD-4794-BF54-4F7B53CD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E6BC-852E-4E4B-85A0-27CA7A73DD19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69DD-098C-4486-981D-EE4C797D67A6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nova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ttp://lorn.flexiblelearning.net.a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3:07:06Z</dcterms:created>
  <dc:creator>user1</dc:creator>
  <dc:description/>
  <dc:language>en-US</dc:language>
  <cp:lastModifiedBy>user1</cp:lastModifiedBy>
  <dcterms:modified xsi:type="dcterms:W3CDTF">2010-02-24T03:08:43Z</dcterms:modified>
  <cp:revision>1</cp:revision>
  <dc:subject/>
  <dc:title>Innovation</dc:title>
</cp:coreProperties>
</file>