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A854D-DDBF-451C-8C58-59FB5C6AC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6C4EA-C562-4A45-99B9-795D0B647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D8D5-852C-406C-A5A1-A3428FCE3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700BB-7B5F-4BCF-888E-EE04B949C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460C-F443-400F-B7A7-356D4B87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1CBC-DA58-415E-A124-D846F6609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E212-B57B-43D8-9A28-1EA98AD02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E339-5D85-482C-A5D1-96EC7A7A6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0580-1BD2-4742-AE59-557FAFE8C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D5848-5321-4A0C-913E-CC7F9E53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8FB5-FDA1-4674-866B-9817E3C3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AA6A2-D7F7-4543-8CD8-AED0516B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71AF-BFB9-4DE9-A11C-8941BD7E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8418F-9308-4EB1-8242-D98DB25A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D605-464C-421C-B00E-384E2410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6DD17-2473-4EB8-B189-7B288CF8F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9C861-E584-4FCD-B80B-3AC9892F9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DA74F-04C0-47AE-9A48-8E34F75B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E51C3-B4A8-4D23-BD56-34EA640A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E4437-8E23-42FF-8813-463B9925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35FE4-4553-4D5B-941E-51A25494A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8948-B65B-4036-88D4-CEB286113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5BF22-109E-4A9D-8955-B32E36593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F1C59-1966-45B0-AAB1-2E8BF7A75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69788-F742-4918-A8EA-FA48DAD8FC74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1AD54-0C9C-4A3A-BFF5-5664F5CD55F3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Innovatio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ttp://lorn.flexiblelearning.net.au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3:07:06Z</dcterms:created>
  <dc:creator>user1</dc:creator>
  <dc:description/>
  <dc:language>en-US</dc:language>
  <cp:lastModifiedBy>user1</cp:lastModifiedBy>
  <dcterms:modified xsi:type="dcterms:W3CDTF">2010-02-24T03:08:43Z</dcterms:modified>
  <cp:revision>1</cp:revision>
  <dc:subject/>
  <dc:title>Innovation</dc:title>
</cp:coreProperties>
</file>