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73950E-8CCE-4B78-B762-25735F96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B300-5F74-4433-ABDC-1C52D471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48B3C-E7E7-402F-A9D2-B8AA808A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8971E-084F-4CB0-BBCA-971626D35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69A01-3846-4997-AA97-CADCF3341A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E8AC-F0EF-482B-83CE-6BF16C6A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44FE8-A9C0-429D-A7FB-3A89A289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9CC50-3347-4EDB-80EE-13FF686EA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89CAC-0584-4B91-88BA-D9E71C27D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70B83-2EE0-48F6-8357-98F693A6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28675-DDD5-4447-8EF3-4364E6F1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40048-8951-4D8F-9839-7739BA697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36038-8FAF-46BB-B2CD-70015BCC8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BB66-E19A-48AE-AAB9-A59E4C8F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23478-41C3-4484-9779-0FAFA709F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1B82B-7E91-4E0A-8F67-F26A1C41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10EEC-4DFF-42BD-8D08-5E67A31D0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E65F1-0FD3-47D7-A79B-3078B7D24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1986C-6B2C-4074-BBFC-3725FD7CD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6055-BDBE-44AB-9CE7-1907B9E0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184464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F0BC7-E4E2-4E9A-B779-1995BB754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B723D-D04A-43F7-88C5-01482EFA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1CBE-8F53-4D39-89C4-C7C8EB5C3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5E364-EDB2-4153-A567-2274E11E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BF80-9271-48C2-A9D3-94FC3F8242D8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4F55-0D40-40E1-83A7-92B2FD292959}" type="slidenum">
              <a:rPr b="0" lang="en-A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Innovation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http://lorn.flexiblelearning.net.au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3:07:06Z</dcterms:created>
  <dc:creator>user1</dc:creator>
  <dc:description/>
  <dc:language>en-US</dc:language>
  <cp:lastModifiedBy>user1</cp:lastModifiedBy>
  <dcterms:modified xsi:type="dcterms:W3CDTF">2010-02-24T03:08:43Z</dcterms:modified>
  <cp:revision>1</cp:revision>
  <dc:subject/>
  <dc:title>Innovation</dc:title>
</cp:coreProperties>
</file>