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B332-8C8C-4DD7-9F70-B868F8B7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18E1-4A04-4169-A532-DE5EF5FB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5CBC-2EE5-4D28-8363-DAB9B4DE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F08C-81CC-449F-8D98-4F44E62E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7E12-DED0-4508-A970-63F5B55C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E8F6-8BC7-4B01-BEDC-B88EB996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A845-9A3F-44DE-9018-1B2A53EC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9F3E-B99F-42DA-BA22-A239702A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BCBC-53F2-4630-B033-0C9C24B7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849E-36EB-462D-A8A5-0589F6FB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BB87-4DCA-47DE-829B-F9430FC6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D8FD-8B5D-4159-B088-C6EB3120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5E29-599A-4AE9-BFBC-AEFD4AD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BE86-8A77-4CCE-87ED-EBC54029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9E40-463F-44D9-BF56-C7E2B9B9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A0C3-D06A-4099-99D8-C9814A40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E830-2310-4898-9FF6-6BA4E455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B470-0912-4FF7-9195-539D60D2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4EC1-0568-499C-965B-EE6C9F62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797B-CCCD-4EA0-9E49-A3E4A090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7D7C-433C-44E1-9A30-30EDD76A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5BF9-88EC-4BEB-A1E3-B7C65DEC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0A89-7774-4063-9D4D-0ABE45FE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0136-DE11-49A4-9FCF-12A2CE57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605C-3B19-42C9-8051-F27922BA4BBA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52A0-7E2B-475B-BB20-AE4F5AE3BEBB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nnova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ttp://lorn.flexiblelearning.net.a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3:07:06Z</dcterms:created>
  <dc:creator>user1</dc:creator>
  <dc:description/>
  <dc:language>en-US</dc:language>
  <cp:lastModifiedBy>user1</cp:lastModifiedBy>
  <dcterms:modified xsi:type="dcterms:W3CDTF">2010-02-24T03:08:43Z</dcterms:modified>
  <cp:revision>1</cp:revision>
  <dc:subject/>
  <dc:title>Innovation</dc:title>
</cp:coreProperties>
</file>