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62951-7B6A-4CEC-9815-83A4FB25A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3E2E0-4DDC-4E85-AE3F-878A6D93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78A00-5E83-431D-9E63-DEF55ABDB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7954D-B9B3-4D86-93E8-D6AF09D61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E9E1-2170-46AF-969F-8A41614C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71FFA-8C3A-4A6D-B124-A58A69928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DF32B-41CD-42B9-9B35-9829B71DF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3C4C1-899B-41EF-9193-9AEDE9A4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7CDD-E06B-46E5-AC1E-EB0C01A37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5363-9264-40C0-8F8F-A48D6179F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3E1C-60FE-48AB-A171-C6FDBFD5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A3D356-3B5C-4AF0-B088-C89AAC7E4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33AA-3A95-49BB-9309-05549743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29AD-E2B8-4F42-944A-9211693E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625C-A2A3-407C-9585-F2928DAB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F0B7-B8C4-40ED-B3B2-B38D61513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34235-FF99-4EBA-A478-D10C10EF9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FEA8-764C-419A-A8C7-84C871B59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4C039E-6664-42E2-87E6-424AAB33E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C7E9-08FB-4AB1-B5A0-865DE5631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CC57B-564F-4B45-A800-60D60EB5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69582-A4F8-45E0-B259-4B96548C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AC8AD-53B2-486F-822E-F7E482FD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24BD0-63CD-4A0D-8630-627413C19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1C43F-FAE0-427A-8694-2CD9ED189B56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33B1A-251A-4A64-AFC7-12F24D2B6BCD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umanmetrics.com/cgi-win/JTypes1.htm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en.wikipedia.org/wiki/World_War_II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yers Brigg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087640" y="3906720"/>
            <a:ext cx="62848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yers Briggs Personality Sort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humanmetrics.com/cgi-win/JTypes1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/daughter developed the MBTI from the theories of Carl J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egan creating the indicator during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World War II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believing that a knowledge of personality preferences would help women who were entering the industrial workforce for the first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 Tea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your own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other types in your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o get the most out of your relationship and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akes decisions based on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akes decisions based on analysis and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rusts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inds flaws, criti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laces premium on fair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decisions based on what they like or don’t like, their values, or the impact of their decision o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s personal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at understanding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ve planned and organ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being deci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best when following a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to schedule and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definite order and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style is 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joys su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ised by dead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going with the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tolerate ambig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sed by being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s best when talking wit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best work externally in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focused in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sed by being 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s have dep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information using the 5 s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s in the present, enjoys what is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s con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sequenti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 at patterns and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ls with pos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s theory more than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by seeing connections, jumps in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1:38:50Z</dcterms:created>
  <dc:creator>Central TAFE</dc:creator>
  <dc:description/>
  <dc:language>en-US</dc:language>
  <cp:lastModifiedBy>user1</cp:lastModifiedBy>
  <dcterms:modified xsi:type="dcterms:W3CDTF">2010-02-24T01:46:25Z</dcterms:modified>
  <cp:revision>4</cp:revision>
  <dc:subject/>
  <dc:title>Myers Briggs</dc:title>
</cp:coreProperties>
</file>