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C3A2-698C-4D9A-B55E-47729344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BB47-37FB-454D-941E-C021AB79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7EC9-C995-486C-BDB1-5F4E6144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2BA9-956C-4335-B8E2-CE7B3F6B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07F3-10EB-4DB8-B271-DDCAAE30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06AD-22EA-4C5A-99DB-C9581A3B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B4C1-5290-42C5-8723-D372EF97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A76D-FC7D-4B33-9B9D-D16A3E3D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CB09-20D9-4610-B2A6-502BCF54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85A9-1602-418F-A1B0-AEBCE9E0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9A0C-4C54-4991-94F3-3172B7B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7C26-661C-4EB9-B2B8-4512ED3F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4252-2FD0-4080-8A12-FF5F1EB4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C624-83D6-4956-BEAE-E320C12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2063-B07E-4AC6-BF66-A735238F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62E-A526-4648-A809-0782729E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CCB1-E660-4771-869E-26A338A8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3736-45A1-4D36-89D6-4D972E69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F1EB-94FD-4658-BE6E-186E40EA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CB09-0246-4A97-B10F-2BB3F7F4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425A-EF88-4FBF-B878-67818498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36A3-B7BA-43DB-BF0B-8F277475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86E6-D952-4F29-8E9F-9B021BD6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AAB6-7EF1-4253-A4C4-533A05F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E04F-F8A9-4891-B447-C69F16E4762E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4E53-D6DF-4E5D-B18F-CC164A318AD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umanmetrics.com/cgi-win/JTypes1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en.wikipedia.org/wiki/World_War_II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yers Brigg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87640" y="3906720"/>
            <a:ext cx="6284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yers Briggs Personality Sor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humanmetrics.com/cgi-win/JTypes1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/daughter developed the MBTI from the theories of Carl J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gan creating the indicator during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World War I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believing that a knowledge of personality preferences would help women who were entering the industrial workforce for the first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 Te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your own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other types in you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get the most out of your relationship and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analysis and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rusts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inds flaws, criti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laces premium on fai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decisions based on what they like or don’t like, their values, or the impact of their decision o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s person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at understanding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ve planned and organ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being deci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best when following a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to schedule and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definite order and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is 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joys su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ised by dead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going with th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tolerat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s best when talking wit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best work externally in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focused in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s have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information using the 5 s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s in the present, enjoys what i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s con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sequenti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patterns and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ls with pos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s theory more than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by seeing connections, jumps in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1:38:50Z</dcterms:created>
  <dc:creator>Central TAFE</dc:creator>
  <dc:description/>
  <dc:language>en-US</dc:language>
  <cp:lastModifiedBy>user1</cp:lastModifiedBy>
  <dcterms:modified xsi:type="dcterms:W3CDTF">2010-02-24T01:46:25Z</dcterms:modified>
  <cp:revision>4</cp:revision>
  <dc:subject/>
  <dc:title>Myers Briggs</dc:title>
</cp:coreProperties>
</file>