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59EF-10EE-40DA-A295-66B40A9F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F965-497F-4A94-823D-92DD611F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82A6-491C-4BCF-A9D8-1E178CDE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FBD4-32BA-4D65-864D-A80A3E80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96C7-A237-4FE5-B5DE-7D470F90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FB75-99EE-4254-8AF1-445FD4F6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049D-77B0-4DE5-9CAC-CED48AF2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1FE3-08BC-4D90-893C-CFCF4DDB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D182-2E8D-4821-B93C-563BC45F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0A73-D475-45F9-97E9-FEFA236D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6875-20B6-401D-BA64-BFA0AF16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0BDC-90E2-47FF-98E8-1B6EFBC2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81D8-8C2A-4B4E-82C7-7F9720C0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8EDF-E9B6-4443-9553-16666EE5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82E3-56A2-4C7F-A582-DFFEA655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B1D2-EA5A-4E9E-8C17-FAF6F944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6980-440A-43BE-BAFE-94A19E46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43C5-59B5-486F-858A-4F2621DD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A217-04F0-475D-8B55-F8EE2680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9F30-593C-421E-B31F-66CB4011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6407-D8BA-464A-9DE2-29761B0D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54B6-69F9-4130-9329-0E04895B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8E46-8631-404B-B412-C1ED5281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CE02-18E5-42B5-AAAD-8767D358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28DF-7DCE-4A8E-9AE0-48E54C5227A5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FBCD-251A-4FC8-B466-EC8082657D16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umanmetrics.com/cgi-win/JTypes1.ht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en.wikipedia.org/wiki/World_War_II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yers Brigg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87640" y="3906720"/>
            <a:ext cx="62848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yers Briggs Personality Sort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humanmetrics.com/cgi-win/JTypes1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/daughter developed the MBTI from the theories of Carl J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gan creating the indicator during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World War II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believing that a knowledge of personality preferences would help women who were entering the industrial workforce for the first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 Tea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your own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other types in your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o get the most out of your relationship and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analysis and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rusts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inds flaws, criti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laces premium on fair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decisions based on what they like or don’t like, their values, or the impact of their decision o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s personal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at understanding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ve planned and organ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being deci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best when following a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to schedule and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definite order and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style is 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joys su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ised by dead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going with th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tolerate 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s best when talking wit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best work externally in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focused in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s have dep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information using the 5 s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s in the present, enjoys what is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s con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sequenti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 at patterns and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ls with pos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s theory more than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by seeing connections, jumps in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1:38:50Z</dcterms:created>
  <dc:creator>Central TAFE</dc:creator>
  <dc:description/>
  <dc:language>en-US</dc:language>
  <cp:lastModifiedBy>user1</cp:lastModifiedBy>
  <dcterms:modified xsi:type="dcterms:W3CDTF">2010-02-24T01:46:25Z</dcterms:modified>
  <cp:revision>4</cp:revision>
  <dc:subject/>
  <dc:title>Myers Briggs</dc:title>
</cp:coreProperties>
</file>