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FB56F-4DAA-432B-BE3F-DF4F05A16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B7F46-21F9-4EB1-B1D0-228BCEF5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07944-9403-41D3-8E30-EB822200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28247-2698-4E32-8619-C39F5FB13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44B8-9B14-4ADE-967C-300B7C953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10C1B-7D2B-4B5C-9CF9-802BE78F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CC411-832E-49E2-89CA-7143AE3BF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B02E9-9023-4BF2-805F-DC3DAAC0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313B5-06B3-4422-ABC3-47FE7398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55E75-D94C-4126-BAF2-44538D101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5A9DD-33F1-4088-AED5-FE3B8C5A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22EDE-87BC-4A58-9902-B1A97B16C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66C2-C833-48D2-B06F-9D504BB13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C53F9-EB93-4A55-8CE7-2471ABFD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A8536-6549-4236-9059-DFBBA8D16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46C51-9C89-4C41-B277-5F805B66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15EB4-5E92-4CB8-90E9-46E5FFF10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8E732-975C-4C9A-8042-254F707A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E2F6D-1760-4D0A-9D9C-21D6BEB3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13CD1-8BA1-4EBF-AC3C-85656706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D2032-E2C1-4362-AFEC-88D590872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ABCD1-261B-4FBE-BD5D-3EF1F0A2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E0288-8683-4D9B-B2E4-8A09CC8A2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2A163-512B-4814-A30D-14D4CF0EB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448E8-F573-460A-976D-E015DA45A914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809A-B569-4577-9F7E-DD8392D04E8C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umanmetrics.com/cgi-win/JTypes1.htm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en.wikipedia.org/wiki/World_War_II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yers Brigg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087640" y="3906720"/>
            <a:ext cx="62848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yers Briggs Personality Sort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humanmetrics.com/cgi-win/JTypes1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/daughter developed the MBTI from the theories of Carl J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egan creating the indicator during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World War II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believing that a knowledge of personality preferences would help women who were entering the industrial workforce for the first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 Tea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your own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other types in your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o get the most out of your relationship and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akes decisions based on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akes decisions based on analysis and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rusts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inds flaws, criti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laces premium on fair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decisions based on what they like or don’t like, their values, or the impact of their decision o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s personal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at understanding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ve planned and organ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being deci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best when following a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to schedule and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definite order and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style is 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joys su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ised by dead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going with the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tolerate ambig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sed by being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s best when talking wit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best work externally in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focused in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sed by being 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s have dep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information using the 5 s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s in the present, enjoys what is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s con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sequenti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 at patterns and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ls with pos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s theory more than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by seeing connections, jumps in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1:38:50Z</dcterms:created>
  <dc:creator>Central TAFE</dc:creator>
  <dc:description/>
  <dc:language>en-US</dc:language>
  <cp:lastModifiedBy>user1</cp:lastModifiedBy>
  <dcterms:modified xsi:type="dcterms:W3CDTF">2010-02-24T01:46:25Z</dcterms:modified>
  <cp:revision>4</cp:revision>
  <dc:subject/>
  <dc:title>Myers Briggs</dc:title>
</cp:coreProperties>
</file>