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9813-7C71-47B3-8120-E60F3757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1C9E-132E-44DB-97B1-80E7C0BB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3632-7520-4B49-99EF-27B50CBA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44D3-E681-4A72-8998-5903B924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711E-6A32-4B04-A7F5-0941D095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93E2-A29B-47DA-950C-3E751E4D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2EFD-21A8-4C5B-BA9F-101E1AE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AA8C-AEC8-4233-AD88-3AE030A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D42C-5E92-443C-BAB3-CE63221F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BE7A-DF3D-496F-A810-D9551934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2F0E-5C16-43E2-96B9-3F601D15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1B27-B55B-4F2B-BE9E-3D1778E9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5BB9-ED0A-41E3-B86B-CE06E60A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33ED-FF46-4343-B771-326EEC77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5FFA-AC00-4EB0-BECE-4E376813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CA3-308D-44C2-8801-40C0514D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BF8A-B62A-4117-B270-160F3648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00E9-5538-4DEE-BF72-E75E76D4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7D31-F2DF-4EBD-8B33-BBCB467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184D-A248-4256-8F61-2DE71D02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F4BD-B726-4632-BFD0-66D86A1A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6BE1-5AAF-423D-8250-F55B6FE2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AA47-CCE7-472F-AF0E-6FAFC12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C122-2B32-4CC0-A48C-EE326A73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2C1C-2F1C-4CE7-9ED3-8083CE6994AB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D095-1E34-4926-AAE3-BD9BCC3C50E2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umanmetrics.com/cgi-win/JTypes1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en.wikipedia.org/wiki/World_War_II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yers Brigg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87640" y="3906720"/>
            <a:ext cx="6284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yers Briggs Personality Sor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humanmetrics.com/cgi-win/JTypes1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/daughter developed the MBTI from the theories of Carl J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gan creating the indicator during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World War I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believing that a knowledge of personality preferences would help women who were entering the industrial workforce for the first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 Te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your own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other types in you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get the most out of your relationship and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analysis and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rusts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inds flaws, criti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laces premium on fai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decisions based on what they like or don’t like, their values, or the impact of their decision o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s person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at understanding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ve planned and organ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being deci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best when following a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to schedule and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definite order and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is 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joys su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ised by dead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going with th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tolerat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s best when talking wit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best work externally in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focused in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s have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information using the 5 s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s in the present, enjoys what i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s con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sequenti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patterns and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ls with pos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s theory more than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by seeing connections, jumps in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1:38:50Z</dcterms:created>
  <dc:creator>Central TAFE</dc:creator>
  <dc:description/>
  <dc:language>en-US</dc:language>
  <cp:lastModifiedBy>user1</cp:lastModifiedBy>
  <dcterms:modified xsi:type="dcterms:W3CDTF">2010-02-24T01:46:25Z</dcterms:modified>
  <cp:revision>4</cp:revision>
  <dc:subject/>
  <dc:title>Myers Briggs</dc:title>
</cp:coreProperties>
</file>