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BE29-1751-49F6-95C2-7581AAFD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86094-DBE0-49C3-BF5F-4670BFA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BE3C3-8886-4785-A40A-B81CA2A8B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A2D07-15CC-402C-9C1A-FD63C3DD0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AEAA-0DF1-4A3F-9D99-79C520460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F03F9-FD48-4AA7-B02B-2C098812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143E-9C0A-4F4B-A8F3-D8AFF553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8B813-548F-4ECD-9020-1836C47D3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00349-80FF-476E-896B-E110A5133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94362-10D6-42E7-83D3-D0249179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F468D-52A2-4F13-9B33-53FFF168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1500F-B4DB-4F7A-A2FF-B2F70B50D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22BD-FD5B-43F7-8242-24A5B8B8C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7FE41-8D4A-4D88-8BF7-8D5F8A17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101B4-33BF-4C85-8E5B-D80B2889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64AE0-D8BB-49A7-A550-2C820305F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347D-03AB-4AF0-86F3-3C7135F65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5D63F-CD60-4F66-BF3B-78748D9E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C5657-8956-4C2D-9922-A0AE99538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8A96B-DDF3-4982-B861-7C2301DD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B387D-3853-4241-9FF2-E23ACAE98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9FB36-5C0B-4EA0-9630-166B0F914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FA31-4317-4F98-A409-5F893AEE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96998-363B-4160-A1C5-0DBF7EC81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C6B9-55DD-471F-A063-EC94F33A2655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D8C53-878B-4AEB-91E1-65B9998A3B9E}" type="slidenum">
              <a:rPr b="0" lang="en-A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humanmetrics.com/cgi-win/JTypes1.htm" TargetMode="External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hyperlink" Target="http://en.wikipedia.org/wiki/World_War_II" TargetMode="External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Myers Brigg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subTitle"/>
          </p:nvPr>
        </p:nvSpPr>
        <p:spPr>
          <a:xfrm>
            <a:off x="2087640" y="3906720"/>
            <a:ext cx="628488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yers Briggs Personality Sorte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www.humanmetrics.com/cgi-win/JTypes1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ther/daughter developed the MBTI from the theories of Carl Ju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began creating the indicator during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5"/>
              </a:rPr>
              <a:t>World War II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, believing that a knowledge of personality preferences would help women who were entering the industrial workforce for the first tim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 Team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your own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the other types in your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earn to get the most out of your relationship and each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Makes decisions based on analysis and princi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Trusts Log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Finds flaws, critic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Places premium on fairn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ke decisions based on what they like or don’t like, their values, or the impact of their decision on oth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usts personal re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od at understanding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cisive planned and organis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being decisi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rks best when following a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to schedule and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definite order and stru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Peo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estyle is flex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joys su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ergised by deadl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kes going with the f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37123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le to tolerate ambigu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with oth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ter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nks best when talking with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best work externally in a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tention focused inwa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ergised by being  alo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ests have dep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2912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s information using the 5 sen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ves in the present, enjoys what is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s concre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sequenti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56240" y="1600200"/>
            <a:ext cx="40305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 Peo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ks at patterns and relationshi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als with possibili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usts theory more than experie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arns by seeing connections, jumps in any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5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5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1T01:38:50Z</dcterms:created>
  <dc:creator>Central TAFE</dc:creator>
  <dc:description/>
  <dc:language>en-US</dc:language>
  <cp:lastModifiedBy>user1</cp:lastModifiedBy>
  <dcterms:modified xsi:type="dcterms:W3CDTF">2010-02-24T01:46:25Z</dcterms:modified>
  <cp:revision>4</cp:revision>
  <dc:subject/>
  <dc:title>Myers Briggs</dc:title>
</cp:coreProperties>
</file>